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ther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i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örpertemperatu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5840" y="5493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örpertemperatu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er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Wärmezufuhr 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s Wärmeabgab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d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(Wärme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ls Wärmeabgab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66960" y="54936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Körpertemperatu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yperther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Wärmezufuhr 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s Wärmeabgab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3"/>
            <a:endCxn id="11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5" name=""/>
          <p:cNvCxnSpPr>
            <a:stCxn id="112" idx="3"/>
            <a:endCxn id="11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ßentemper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reich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uftzirk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6400" y="549360"/>
            <a:ext cx="73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örpertemperatu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ther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xogen (Wärmezufuhr größer a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ärmeabgab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d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Wärme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ls Wärmeabgab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rundumsatz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uskelarb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103040" y="549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örpertemperatu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ther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dogen (Wärmeproduktion 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s Wärmeabgab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undumsatz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03040" y="549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örpertemperatu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ther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dogen (Wärmeproduktion 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ls Wärmeabgab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rundumsatz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arb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040" y="549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örpertemperatu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ther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dogen (Wärmeproduktion größ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ls Wärmeabgab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uskelarb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ämpf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Status epileptic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etanus-Intoxikatio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760" y="54936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örpertemperatur ↑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Fi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d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y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y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7" idx="3"/>
            <a:endCxn id="13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7" idx="3"/>
            <a:endCxn id="14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d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y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6640" y="549360"/>
            <a:ext cx="67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örpertemperatur ↑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Fieber &gt; Einfluss endogener Py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8" name=""/>
          <p:cNvCxnSpPr>
            <a:stCxn id="144" idx="3"/>
            <a:endCxn id="149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0" name=""/>
          <p:cNvCxnSpPr>
            <a:stCxn id="144" idx="3"/>
            <a:endCxn id="151" idx="1"/>
          </p:cNvCxnSpPr>
          <p:nvPr/>
        </p:nvCxnSpPr>
        <p:spPr>
          <a:xfrm flipV="1">
            <a:off x="3313080" y="2057040"/>
            <a:ext cx="2689920" cy="20246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2" name=""/>
          <p:cNvCxnSpPr>
            <a:stCxn id="144" idx="3"/>
            <a:endCxn id="153" idx="1"/>
          </p:cNvCxnSpPr>
          <p:nvPr/>
        </p:nvCxnSpPr>
        <p:spPr>
          <a:xfrm>
            <a:off x="3313080" y="4080960"/>
            <a:ext cx="2689920" cy="20264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012000" y="1494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5543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ebere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y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7360" y="5493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örpertemperatur ↑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Fieber &gt; Einfluss exogener Py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3"/>
            <a:endCxn id="1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oxycyclin (Katz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1:54:03Z</dcterms:modified>
  <cp:revision>333</cp:revision>
  <dc:subject/>
  <dc:title>Vorstellung einer Neuheit</dc:title>
</cp:coreProperties>
</file>